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1A0-6024-47CF-9065-ACA7011E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0FE-5CF4-4D11-A990-63B684B7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D97E-ACD4-4427-BF67-77BD183B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B4A-37AA-49B2-AB2C-54C229E6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84F-8038-4069-BC23-38DDD472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FBA-B7E3-4B05-BB32-40E10F11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79E-6A2B-4C61-AFB7-A907ECC1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E97-2FC6-4043-864A-D9FC39FD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6DD-3BAB-4C5E-871E-57A82C1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412-E0AD-4F4F-9B9E-07BD29A9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7F9-0D3A-403D-A96C-B648287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7D7-0CE7-429F-842D-9C5F169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CEB2-2E8D-4C5C-958B-A62229B9E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great place to keep your class syllabus, assignments, form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Active” and “Sav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13840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2590560" y="502920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5486400"/>
            <a:ext cx="5335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33720" y="2666880"/>
            <a:ext cx="4572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File Libra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5181480"/>
            <a:ext cx="14446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you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4191120"/>
            <a:ext cx="12952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14680"/>
            <a:ext cx="685800" cy="384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 your Library from the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51055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New Fi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5120" y="2971800"/>
            <a:ext cx="10666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ile, then click “Nex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38862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038480"/>
            <a:ext cx="762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be the file in the text box, then click “Select Fil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5105520" y="3200400"/>
            <a:ext cx="1371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94360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 for the file to uploa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lick “Nex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5880" y="3429000"/>
            <a:ext cx="8384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44956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3:05:55Z</dcterms:created>
  <dc:creator>%$#@1</dc:creator>
  <dc:description/>
  <dc:language>en-US</dc:language>
  <cp:lastModifiedBy>%$#@1</cp:lastModifiedBy>
  <dcterms:modified xsi:type="dcterms:W3CDTF">2010-04-27T03:05:58Z</dcterms:modified>
  <cp:revision>1</cp:revision>
  <dc:subject/>
  <dc:title>File Library</dc:title>
</cp:coreProperties>
</file>